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EEC1-872B-47F5-9B07-8A3146627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49CC-8C59-47C6-828E-000D19A66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2228-EBE7-402C-B5F5-2B042807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E300-12CA-446C-9280-8F063F4A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BCCD-2CE7-411C-AD6F-C4482DBA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BEAF-8844-4C08-B0F2-8BE59363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EE74-73B7-4802-A878-CA97C4F34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4148-6E6A-4BBD-9167-F3955723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BA670-8BCC-440B-B12E-D83B86FE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37AE3-1293-47F0-B38E-D3F9CBF0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0A6C-C7AA-427A-B87B-75199E6E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014D-9A9B-4118-94B6-E2805B0EB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61852-76F3-48C6-BCEC-FB7AC2B3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249B-6CD2-4C0D-83E1-6D163EF3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2B2D-E81A-48C8-A05C-9ED7F6FC0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5B79C-C494-4BB3-BDAA-EEB2323A7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E471-CE01-4A9E-8633-AD79CEA7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C5B5D-98D4-4097-9B42-D6114FB1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C5B6E-33D0-44E8-8950-FEC11192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B6328-63A5-47F3-9D8E-880E9ECF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FBAF8-0956-4EC9-96E3-55BEFD197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7BA3C-6F71-4B7F-992E-F406CFC0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797-CBFF-4800-9BA1-CE454C8F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4663B-7F09-473D-8C49-75C8150E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0127D-D6E2-4596-9080-E0F9A7154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5ECF65-8944-4CD7-B48E-92AB78C4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35A0F-2CEB-435D-B981-80D8D505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9C4D4-2A5F-4B17-8DD8-6FB41D31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65A55-7800-4AD2-9160-D82DF10A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E9334-CFD2-4692-8571-674E08DA5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5CEB4-5833-4571-B739-625829E2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3224C-B9F2-4A2D-BF43-CB8BCB57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DE4D9-5336-4B9D-A1EB-47F46A38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16DE-0969-45A5-8FC0-6071DAED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FB0D46-B52D-42C9-8C71-FF314DCD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51812-3BC8-4BF3-B27D-EBEFAE47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31529-7188-40DE-AD90-466B4D3C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B1E47-FCA3-46D5-AE84-2D0533B6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55FFD-AC51-4923-B89E-D05BA1ED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4DEFB-A85F-444A-AF4E-DBC8C475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E67C5-2902-449A-9C5C-72C17DF01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E1AD4-44AA-4B4E-9C15-C656730F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CCC67-20C2-452E-8AAC-B3487867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F0AF1-F435-4488-A7A3-8D95BD128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A832-57E7-4850-A013-0005A88D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EE5DB3-903B-4C15-AA8C-AB10C5DB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C8976-37C1-4308-BEB2-01C06B91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AE20C-1362-4196-B860-84B1A243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51883-23F7-431A-96A9-7AD05392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43588-FDA9-4559-8DF3-A5522D55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4B316-3DC5-4959-9DAE-BA795E12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D13CD-803B-4C21-9C97-7F31D1BB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AC354-144F-4ED1-8B46-8E5C489B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3B07C-382F-4672-B2EF-994F1B5E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C5143-B2A9-4F0B-A713-05BAD3BF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F0FB-C759-4AA9-BB65-784D60BA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DE699-A0EB-4301-A9D2-F5EBF136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BC840-B2B5-46DA-BA12-7E869238F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AA125-9086-43FC-BE19-D5CA426F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F3A7D-9F5C-44F7-AD29-D828C7E5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9FF75-6900-46C2-87DF-EC681496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E4741-BA12-4F65-976E-2E2F580CF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C784C-4786-4EA5-8B9C-1DD30EA5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5DEBC-D7C1-4DB8-B507-D65E2E6E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5CCAD-697D-49F2-8F90-6F00647A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EAE9B-19BD-4126-B24A-023FC886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05E3-69BA-49B9-8C0C-6DE931DC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8686E-4339-4B93-862B-BD2B5A2E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9A0B0-B3EC-4774-A544-3D6E075F5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FC53A-BAF3-4E31-8C19-E764006C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DCC84-69AD-4374-875F-CF0BA7C6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F563E-0E9A-4436-AC46-C1818105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B6F08-EB8D-47F5-8568-E1B2455F1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38F00-0B9C-47E6-9DEA-748DF776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C279D-9380-4506-BB12-6C774992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632C1-B6BA-468C-9E96-EEACF831E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003B2-7F54-438B-8F2A-4F7C0D8E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CD29-EF44-4BD9-8D04-D1C188EE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9546D-67F1-49E1-8CA9-951A8D10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3E011-411A-4FB0-8BC7-5D6C0B62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8B2A1-BB67-4B13-9054-755435CF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FFDAF-F4AD-40F7-92B4-2E747A434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F598B-E2C3-43AF-9FE9-415BA482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B985C-D6FC-4EC5-9BDD-3E371B69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8F7CB-D419-4AC8-898A-7CDCCE03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8640D-9688-427C-AFB8-205FC1F4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CE483-E351-4E56-9152-071CFC206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9F817-CB11-4605-BD4D-97B586EE8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CCF9-9A5F-4819-BF3E-971897AC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428640" y="685440"/>
            <a:ext cx="494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9885D-ED49-4DAF-8D22-A6F191BF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20B20-6F43-43FA-BD3D-7FBD971D4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7DCD1-795B-47CD-97B0-87F5400C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2AA6F-0497-4C90-BF63-BBFE4B93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428640" y="4165200"/>
            <a:ext cx="494676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4F8BE-60DE-4922-B060-83EBFC3F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963400" y="202068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42864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963400" y="4165200"/>
            <a:ext cx="2413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90E0D-D4AC-4DEA-9B4A-DA1A9922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42864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0120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774120" y="202068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42864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510120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774120" y="4165200"/>
            <a:ext cx="159264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F71BF-904D-4EFB-9BC5-D2912EDD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657ACA-57AE-4CEA-883A-CB6A94D57CB6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752480" y="287820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73B0D6-FF8B-4BD4-9E8C-F062521D3980}" type="slidenum">
              <a:rPr b="1" lang="en-US" sz="24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8"/>
          <p:cNvGrpSpPr/>
          <p:nvPr/>
        </p:nvGrpSpPr>
        <p:grpSpPr>
          <a:xfrm>
            <a:off x="843120" y="2971800"/>
            <a:ext cx="914400" cy="914400"/>
            <a:chOff x="843120" y="2971800"/>
            <a:chExt cx="914400" cy="914400"/>
          </a:xfrm>
        </p:grpSpPr>
        <p:sp>
          <p:nvSpPr>
            <p:cNvPr id="6" name="Rounded Rectangle 7"/>
            <p:cNvSpPr/>
            <p:nvPr/>
          </p:nvSpPr>
          <p:spPr>
            <a:xfrm>
              <a:off x="843120" y="29718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grpSp>
          <p:nvGrpSpPr>
            <p:cNvPr id="7" name="Group 10"/>
            <p:cNvGrpSpPr/>
            <p:nvPr/>
          </p:nvGrpSpPr>
          <p:grpSpPr>
            <a:xfrm>
              <a:off x="948600" y="3034080"/>
              <a:ext cx="700920" cy="801000"/>
              <a:chOff x="948600" y="3034080"/>
              <a:chExt cx="700920" cy="801000"/>
            </a:xfrm>
          </p:grpSpPr>
          <p:sp>
            <p:nvSpPr>
              <p:cNvPr id="8" name="Oval 11"/>
              <p:cNvSpPr/>
              <p:nvPr/>
            </p:nvSpPr>
            <p:spPr>
              <a:xfrm>
                <a:off x="948600" y="3034080"/>
                <a:ext cx="700920" cy="454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9" name="Oval 12"/>
              <p:cNvSpPr/>
              <p:nvPr/>
            </p:nvSpPr>
            <p:spPr>
              <a:xfrm>
                <a:off x="1290600" y="3497760"/>
                <a:ext cx="29268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0" name="Oval 13"/>
              <p:cNvSpPr/>
              <p:nvPr/>
            </p:nvSpPr>
            <p:spPr>
              <a:xfrm>
                <a:off x="1274040" y="370656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1" name="Oval 14"/>
              <p:cNvSpPr/>
              <p:nvPr/>
            </p:nvSpPr>
            <p:spPr>
              <a:xfrm>
                <a:off x="1143720" y="3278880"/>
                <a:ext cx="301680" cy="1951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 Same Side Corner Rectangle 15"/>
          <p:cNvSpPr/>
          <p:nvPr/>
        </p:nvSpPr>
        <p:spPr>
          <a:xfrm rot="16200000">
            <a:off x="1066680" y="1603080"/>
            <a:ext cx="3475080" cy="3475080"/>
          </a:xfrm>
          <a:prstGeom prst="pie">
            <a:avLst/>
          </a:prstGeom>
          <a:solidFill>
            <a:srgbClr val="749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grpSp>
        <p:nvGrpSpPr>
          <p:cNvPr id="49" name="Group 25"/>
          <p:cNvGrpSpPr/>
          <p:nvPr/>
        </p:nvGrpSpPr>
        <p:grpSpPr>
          <a:xfrm>
            <a:off x="2071800" y="2503440"/>
            <a:ext cx="1466640" cy="1676520"/>
            <a:chOff x="2071800" y="2503440"/>
            <a:chExt cx="1466640" cy="1676520"/>
          </a:xfrm>
        </p:grpSpPr>
        <p:sp>
          <p:nvSpPr>
            <p:cNvPr id="50" name="Oval 17"/>
            <p:cNvSpPr/>
            <p:nvPr/>
          </p:nvSpPr>
          <p:spPr>
            <a:xfrm>
              <a:off x="2071800" y="2503440"/>
              <a:ext cx="1466640" cy="9518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51" name="Oval 18"/>
            <p:cNvSpPr/>
            <p:nvPr/>
          </p:nvSpPr>
          <p:spPr>
            <a:xfrm>
              <a:off x="2787840" y="3474000"/>
              <a:ext cx="612720" cy="4086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52" name="Oval 19"/>
            <p:cNvSpPr/>
            <p:nvPr/>
          </p:nvSpPr>
          <p:spPr>
            <a:xfrm>
              <a:off x="2753280" y="3910680"/>
              <a:ext cx="398160" cy="2692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53" name="Oval 20"/>
            <p:cNvSpPr/>
            <p:nvPr/>
          </p:nvSpPr>
          <p:spPr>
            <a:xfrm>
              <a:off x="2480400" y="3016080"/>
              <a:ext cx="631440" cy="40860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sp>
        <p:nvSpPr>
          <p:cNvPr id="54" name="Round Same Side Corner Rectangle 21"/>
          <p:cNvSpPr/>
          <p:nvPr/>
        </p:nvSpPr>
        <p:spPr>
          <a:xfrm flipH="1" rot="5400000">
            <a:off x="4571280" y="1603080"/>
            <a:ext cx="3475080" cy="3475080"/>
          </a:xfrm>
          <a:prstGeom prst="pie">
            <a:avLst/>
          </a:prstGeom>
          <a:solidFill>
            <a:srgbClr val="bacc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4E5AD1-E7AC-400D-9EB8-03D9AB44651E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E1D043-6115-42BA-BDF9-66F25A0ABD41}" type="slidenum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 Same Side Corner Rectangle 15"/>
          <p:cNvSpPr/>
          <p:nvPr/>
        </p:nvSpPr>
        <p:spPr>
          <a:xfrm rot="16200000">
            <a:off x="1066680" y="1603080"/>
            <a:ext cx="3475080" cy="3475080"/>
          </a:xfrm>
          <a:prstGeom prst="pie">
            <a:avLst/>
          </a:prstGeom>
          <a:solidFill>
            <a:srgbClr val="7498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grpSp>
        <p:nvGrpSpPr>
          <p:cNvPr id="97" name="Group 25"/>
          <p:cNvGrpSpPr/>
          <p:nvPr/>
        </p:nvGrpSpPr>
        <p:grpSpPr>
          <a:xfrm>
            <a:off x="2071800" y="1843200"/>
            <a:ext cx="1466640" cy="1676160"/>
            <a:chOff x="2071800" y="1843200"/>
            <a:chExt cx="1466640" cy="1676160"/>
          </a:xfrm>
        </p:grpSpPr>
        <p:sp>
          <p:nvSpPr>
            <p:cNvPr id="98" name="Oval 17"/>
            <p:cNvSpPr/>
            <p:nvPr/>
          </p:nvSpPr>
          <p:spPr>
            <a:xfrm>
              <a:off x="2071800" y="1843200"/>
              <a:ext cx="1466640" cy="9514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99" name="Oval 18"/>
            <p:cNvSpPr/>
            <p:nvPr/>
          </p:nvSpPr>
          <p:spPr>
            <a:xfrm>
              <a:off x="2787840" y="2813760"/>
              <a:ext cx="612720" cy="40860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00" name="Oval 19"/>
            <p:cNvSpPr/>
            <p:nvPr/>
          </p:nvSpPr>
          <p:spPr>
            <a:xfrm>
              <a:off x="2753280" y="3250080"/>
              <a:ext cx="398160" cy="269280"/>
            </a:xfrm>
            <a:prstGeom prst="ellipse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sp>
          <p:nvSpPr>
            <p:cNvPr id="101" name="Oval 20"/>
            <p:cNvSpPr/>
            <p:nvPr/>
          </p:nvSpPr>
          <p:spPr>
            <a:xfrm>
              <a:off x="2480400" y="2355840"/>
              <a:ext cx="631440" cy="408600"/>
            </a:xfrm>
            <a:prstGeom prst="ellipse">
              <a:avLst/>
            </a:prstGeom>
            <a:solidFill>
              <a:srgbClr val="ffffff">
                <a:alpha val="3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186AF7-1AA3-4B36-95FD-6F8D0960FE74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B95B66-A884-4785-947A-41D22B74FF18}" type="slidenum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16"/>
          <p:cNvGrpSpPr/>
          <p:nvPr/>
        </p:nvGrpSpPr>
        <p:grpSpPr>
          <a:xfrm>
            <a:off x="222120" y="1254240"/>
            <a:ext cx="7893360" cy="3919320"/>
            <a:chOff x="222120" y="1254240"/>
            <a:chExt cx="7893360" cy="3919320"/>
          </a:xfrm>
        </p:grpSpPr>
        <p:sp>
          <p:nvSpPr>
            <p:cNvPr id="144" name="Rounded Rectangle 16"/>
            <p:cNvSpPr/>
            <p:nvPr/>
          </p:nvSpPr>
          <p:spPr>
            <a:xfrm>
              <a:off x="1027800" y="1599840"/>
              <a:ext cx="7087680" cy="3475440"/>
            </a:xfrm>
            <a:prstGeom prst="roundRect">
              <a:avLst>
                <a:gd name="adj" fmla="val 3120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grpSp>
          <p:nvGrpSpPr>
            <p:cNvPr id="145" name="Group 9"/>
            <p:cNvGrpSpPr/>
            <p:nvPr/>
          </p:nvGrpSpPr>
          <p:grpSpPr>
            <a:xfrm>
              <a:off x="222120" y="1254240"/>
              <a:ext cx="3429360" cy="3919320"/>
              <a:chOff x="222120" y="1254240"/>
              <a:chExt cx="3429360" cy="3919320"/>
            </a:xfrm>
          </p:grpSpPr>
          <p:sp>
            <p:nvSpPr>
              <p:cNvPr id="146" name="Oval 18"/>
              <p:cNvSpPr/>
              <p:nvPr/>
            </p:nvSpPr>
            <p:spPr>
              <a:xfrm>
                <a:off x="222120" y="1254240"/>
                <a:ext cx="3429360" cy="222516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47" name="Oval 19"/>
              <p:cNvSpPr/>
              <p:nvPr/>
            </p:nvSpPr>
            <p:spPr>
              <a:xfrm>
                <a:off x="1896120" y="3523320"/>
                <a:ext cx="1432800" cy="95508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48" name="Oval 20"/>
              <p:cNvSpPr/>
              <p:nvPr/>
            </p:nvSpPr>
            <p:spPr>
              <a:xfrm>
                <a:off x="1815120" y="4543920"/>
                <a:ext cx="931680" cy="6296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49" name="Oval 21"/>
              <p:cNvSpPr/>
              <p:nvPr/>
            </p:nvSpPr>
            <p:spPr>
              <a:xfrm>
                <a:off x="1177920" y="2453040"/>
                <a:ext cx="1476360" cy="95508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FC17AF-DECC-457A-BC7F-0015ADA1DDA8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4267080" y="6356520"/>
            <a:ext cx="609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DF2611-A3A0-4919-9221-E40F72519AB2}" type="slidenum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13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192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grpSp>
          <p:nvGrpSpPr>
            <p:cNvPr id="193" name="Group 10"/>
            <p:cNvGrpSpPr/>
            <p:nvPr/>
          </p:nvGrpSpPr>
          <p:grpSpPr>
            <a:xfrm>
              <a:off x="7524000" y="519480"/>
              <a:ext cx="700920" cy="801000"/>
              <a:chOff x="7524000" y="519480"/>
              <a:chExt cx="700920" cy="801000"/>
            </a:xfrm>
          </p:grpSpPr>
          <p:sp>
            <p:nvSpPr>
              <p:cNvPr id="194" name="Oval 18"/>
              <p:cNvSpPr/>
              <p:nvPr/>
            </p:nvSpPr>
            <p:spPr>
              <a:xfrm>
                <a:off x="7524000" y="519480"/>
                <a:ext cx="700920" cy="454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95" name="Oval 19"/>
              <p:cNvSpPr/>
              <p:nvPr/>
            </p:nvSpPr>
            <p:spPr>
              <a:xfrm>
                <a:off x="7866000" y="983160"/>
                <a:ext cx="29268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96" name="Oval 20"/>
              <p:cNvSpPr/>
              <p:nvPr/>
            </p:nvSpPr>
            <p:spPr>
              <a:xfrm>
                <a:off x="7849440" y="119196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197" name="Oval 21"/>
              <p:cNvSpPr/>
              <p:nvPr/>
            </p:nvSpPr>
            <p:spPr>
              <a:xfrm>
                <a:off x="7719120" y="764280"/>
                <a:ext cx="301680" cy="1951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E51499-FEFD-4C1C-B40E-178CD145C146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321400" y="36360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64CEC-B80F-495D-870B-679A6B18BA5B}" type="slidenum">
              <a:rPr b="1" lang="en-US" sz="24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Group 15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240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grpSp>
          <p:nvGrpSpPr>
            <p:cNvPr id="241" name="Group 17"/>
            <p:cNvGrpSpPr/>
            <p:nvPr/>
          </p:nvGrpSpPr>
          <p:grpSpPr>
            <a:xfrm>
              <a:off x="7524000" y="519480"/>
              <a:ext cx="700920" cy="801000"/>
              <a:chOff x="7524000" y="519480"/>
              <a:chExt cx="700920" cy="801000"/>
            </a:xfrm>
          </p:grpSpPr>
          <p:sp>
            <p:nvSpPr>
              <p:cNvPr id="242" name="Oval 18"/>
              <p:cNvSpPr/>
              <p:nvPr/>
            </p:nvSpPr>
            <p:spPr>
              <a:xfrm>
                <a:off x="7524000" y="519480"/>
                <a:ext cx="700920" cy="454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243" name="Oval 19"/>
              <p:cNvSpPr/>
              <p:nvPr/>
            </p:nvSpPr>
            <p:spPr>
              <a:xfrm>
                <a:off x="7866000" y="983160"/>
                <a:ext cx="29268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244" name="Oval 20"/>
              <p:cNvSpPr/>
              <p:nvPr/>
            </p:nvSpPr>
            <p:spPr>
              <a:xfrm>
                <a:off x="7849440" y="119196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245" name="Oval 21"/>
              <p:cNvSpPr/>
              <p:nvPr/>
            </p:nvSpPr>
            <p:spPr>
              <a:xfrm>
                <a:off x="7719120" y="764280"/>
                <a:ext cx="301680" cy="1951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E2C14B-911B-40EC-938D-2447579B4E4B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9128E7-BBE5-4EF2-BBFA-F9B0D57F073D}" type="slidenum">
              <a:rPr b="1" lang="en-US" sz="24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8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288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grpSp>
          <p:nvGrpSpPr>
            <p:cNvPr id="289" name="Group 10"/>
            <p:cNvGrpSpPr/>
            <p:nvPr/>
          </p:nvGrpSpPr>
          <p:grpSpPr>
            <a:xfrm>
              <a:off x="7524000" y="519480"/>
              <a:ext cx="700920" cy="801000"/>
              <a:chOff x="7524000" y="519480"/>
              <a:chExt cx="700920" cy="801000"/>
            </a:xfrm>
          </p:grpSpPr>
          <p:sp>
            <p:nvSpPr>
              <p:cNvPr id="290" name="Oval 18"/>
              <p:cNvSpPr/>
              <p:nvPr/>
            </p:nvSpPr>
            <p:spPr>
              <a:xfrm>
                <a:off x="7524000" y="519480"/>
                <a:ext cx="700920" cy="454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291" name="Oval 19"/>
              <p:cNvSpPr/>
              <p:nvPr/>
            </p:nvSpPr>
            <p:spPr>
              <a:xfrm>
                <a:off x="7866000" y="983160"/>
                <a:ext cx="29268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292" name="Oval 20"/>
              <p:cNvSpPr/>
              <p:nvPr/>
            </p:nvSpPr>
            <p:spPr>
              <a:xfrm>
                <a:off x="7849440" y="119196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293" name="Oval 21"/>
              <p:cNvSpPr/>
              <p:nvPr/>
            </p:nvSpPr>
            <p:spPr>
              <a:xfrm>
                <a:off x="7719120" y="764280"/>
                <a:ext cx="301680" cy="1951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5E52A1-9AD1-4D78-BE7B-AAAE4804E23A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5C29F3-F2E0-49F3-A243-DAFC90B9434D}" type="slidenum">
              <a:rPr b="1" lang="en-US" sz="24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Group 7"/>
          <p:cNvGrpSpPr/>
          <p:nvPr/>
        </p:nvGrpSpPr>
        <p:grpSpPr>
          <a:xfrm>
            <a:off x="7418520" y="457200"/>
            <a:ext cx="914400" cy="914400"/>
            <a:chOff x="7418520" y="457200"/>
            <a:chExt cx="914400" cy="914400"/>
          </a:xfrm>
        </p:grpSpPr>
        <p:sp>
          <p:nvSpPr>
            <p:cNvPr id="336" name="Rounded Rectangle 16"/>
            <p:cNvSpPr/>
            <p:nvPr/>
          </p:nvSpPr>
          <p:spPr>
            <a:xfrm>
              <a:off x="7418520" y="457200"/>
              <a:ext cx="914400" cy="914400"/>
            </a:xfrm>
            <a:prstGeom prst="roundRect">
              <a:avLst>
                <a:gd name="adj" fmla="val 9315"/>
              </a:avLst>
            </a:prstGeom>
            <a:solidFill>
              <a:srgbClr val="7498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News Gothic MT"/>
              </a:endParaRPr>
            </a:p>
          </p:txBody>
        </p:sp>
        <p:grpSp>
          <p:nvGrpSpPr>
            <p:cNvPr id="337" name="Group 10"/>
            <p:cNvGrpSpPr/>
            <p:nvPr/>
          </p:nvGrpSpPr>
          <p:grpSpPr>
            <a:xfrm>
              <a:off x="7524000" y="519480"/>
              <a:ext cx="700920" cy="801000"/>
              <a:chOff x="7524000" y="519480"/>
              <a:chExt cx="700920" cy="801000"/>
            </a:xfrm>
          </p:grpSpPr>
          <p:sp>
            <p:nvSpPr>
              <p:cNvPr id="338" name="Oval 18"/>
              <p:cNvSpPr/>
              <p:nvPr/>
            </p:nvSpPr>
            <p:spPr>
              <a:xfrm>
                <a:off x="7524000" y="519480"/>
                <a:ext cx="700920" cy="454680"/>
              </a:xfrm>
              <a:prstGeom prst="ellips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339" name="Oval 19"/>
              <p:cNvSpPr/>
              <p:nvPr/>
            </p:nvSpPr>
            <p:spPr>
              <a:xfrm>
                <a:off x="7866000" y="983160"/>
                <a:ext cx="292680" cy="195120"/>
              </a:xfrm>
              <a:prstGeom prst="ellipse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340" name="Oval 20"/>
              <p:cNvSpPr/>
              <p:nvPr/>
            </p:nvSpPr>
            <p:spPr>
              <a:xfrm>
                <a:off x="7849440" y="1191960"/>
                <a:ext cx="190440" cy="12852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  <p:sp>
            <p:nvSpPr>
              <p:cNvPr id="341" name="Oval 21"/>
              <p:cNvSpPr/>
              <p:nvPr/>
            </p:nvSpPr>
            <p:spPr>
              <a:xfrm>
                <a:off x="7719120" y="764280"/>
                <a:ext cx="301680" cy="195120"/>
              </a:xfrm>
              <a:prstGeom prst="ellipse">
                <a:avLst/>
              </a:prstGeom>
              <a:solidFill>
                <a:srgbClr val="ffffff">
                  <a:alpha val="3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News Gothic MT"/>
                </a:endParaRPr>
              </a:p>
            </p:txBody>
          </p:sp>
        </p:grp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Click to edit the title text format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3" marL="914400" indent="-228600">
              <a:spcBef>
                <a:spcPts val="1800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4" marL="11430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5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6" marL="1143000" indent="-228600">
              <a:spcBef>
                <a:spcPts val="1800"/>
              </a:spcBef>
              <a:buClr>
                <a:srgbClr val="000000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900" spc="-1" strike="noStrike">
                <a:solidFill>
                  <a:srgbClr val="bfbfb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CF4EA-7857-47E9-861F-9A9B7BEE3DEE}" type="datetime">
              <a:rPr b="1" lang="en-US" sz="900" spc="-1" strike="noStrike">
                <a:solidFill>
                  <a:srgbClr val="bfbfb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3"/>
          </p:nvPr>
        </p:nvSpPr>
        <p:spPr>
          <a:xfrm>
            <a:off x="4568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News Gothic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4"/>
          </p:nvPr>
        </p:nvSpPr>
        <p:spPr>
          <a:xfrm>
            <a:off x="8321400" y="36504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2400" spc="-1" strike="noStrike">
                <a:solidFill>
                  <a:srgbClr val="74980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77B57-8D59-4D99-8B35-023ABAC4376F}" type="slidenum">
              <a:rPr b="1" lang="en-US" sz="2400" spc="-1" strike="noStrike">
                <a:solidFill>
                  <a:srgbClr val="74980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50840" y="1680840"/>
            <a:ext cx="3273480" cy="16398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A Long Way Gone Chapter 9 </a:t>
            </a:r>
            <a:endParaRPr b="0" lang="en-US" sz="36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650840" y="3384720"/>
            <a:ext cx="3273480" cy="5299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News Gothic MT"/>
              </a:rPr>
              <a:t>Mr. Rush/ Mr. Farrell</a:t>
            </a:r>
            <a:endParaRPr b="0" lang="en-US" sz="1400" spc="-1" strike="noStrike">
              <a:solidFill>
                <a:srgbClr val="404040"/>
              </a:solidFill>
              <a:latin typeface="News Gothic MT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News Gothic MT"/>
              </a:rPr>
              <a:t>Go Muskies!</a:t>
            </a:r>
            <a:endParaRPr b="0" lang="en-US" sz="14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Warm up!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Quiz Chapters 7 and 8 on quia. 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40880" y="228240"/>
            <a:ext cx="4800600" cy="887400"/>
          </a:xfrm>
          <a:prstGeom prst="rect">
            <a:avLst/>
          </a:prstGeom>
          <a:noFill/>
          <a:ln w="0">
            <a:noFill/>
          </a:ln>
        </p:spPr>
        <p:txBody>
          <a:bodyPr l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What are we doing today?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796320" y="1574280"/>
            <a:ext cx="3607920" cy="223200"/>
          </a:xfrm>
          <a:prstGeom prst="rect">
            <a:avLst/>
          </a:prstGeom>
          <a:solidFill>
            <a:srgbClr val="749805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News Gothic MT"/>
              </a:rPr>
              <a:t>What we will do today</a:t>
            </a:r>
            <a:endParaRPr b="0" lang="en-US" sz="10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747720" y="2021040"/>
            <a:ext cx="3703680" cy="4106880"/>
          </a:xfrm>
          <a:prstGeom prst="rect">
            <a:avLst/>
          </a:prstGeom>
          <a:noFill/>
          <a:ln w="0">
            <a:noFill/>
          </a:ln>
        </p:spPr>
        <p:txBody>
          <a:bodyPr lIns="4572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Quiz Chapters 7 and 8.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peakers what did you learn?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Anticipation Guide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Prediction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Read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1" marL="457200" indent="-228600">
              <a:spcBef>
                <a:spcPts val="601"/>
              </a:spcBef>
              <a:buClr>
                <a:srgbClr val="bacc82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Support your answer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708440" y="1576440"/>
            <a:ext cx="3603600" cy="218880"/>
          </a:xfrm>
          <a:prstGeom prst="rect">
            <a:avLst/>
          </a:prstGeom>
          <a:solidFill>
            <a:srgbClr val="749805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News Gothic MT"/>
              </a:rPr>
              <a:t>Objectives</a:t>
            </a:r>
            <a:endParaRPr b="0" lang="en-US" sz="1000" spc="-1" strike="noStrike">
              <a:solidFill>
                <a:srgbClr val="404040"/>
              </a:solidFill>
              <a:latin typeface="News Gothic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4659120" y="2019240"/>
            <a:ext cx="3701880" cy="4106880"/>
          </a:xfrm>
          <a:prstGeom prst="rect">
            <a:avLst/>
          </a:prstGeom>
          <a:noFill/>
          <a:ln w="0">
            <a:noFill/>
          </a:ln>
        </p:spPr>
        <p:txBody>
          <a:bodyPr lIns="45720"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Analyze the results of political, economic, and social oppression and the violation of human rights 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49805"/>
                </a:solidFill>
                <a:latin typeface="News Gothic MT"/>
              </a:rPr>
              <a:t>What did you learn from the speakers yesterday?</a:t>
            </a:r>
            <a:endParaRPr b="0" lang="en-US" sz="25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What did you learn about West African. . .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601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Daily Life 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601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ulture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601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reatment of Family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601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Treatment of Elderly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601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Food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601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Religion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601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Governments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lvl="2" marL="685800" indent="-228600">
              <a:spcBef>
                <a:spcPts val="601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Education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Anticipation Guide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Check the answers you think are true.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Leave blank the answers you think are false. (The paper has a back to it)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Prediction discussion.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428640" y="685440"/>
            <a:ext cx="4948200" cy="88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49805"/>
                </a:solidFill>
                <a:latin typeface="News Gothic MT"/>
              </a:rPr>
              <a:t>Anticipation Guide</a:t>
            </a:r>
            <a:endParaRPr b="0" lang="en-US" sz="2800" spc="-1" strike="noStrike">
              <a:solidFill>
                <a:srgbClr val="749805"/>
              </a:solidFill>
              <a:latin typeface="News Gothic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428640" y="2020680"/>
            <a:ext cx="49467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____1. accustomed to ocean/fisherman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____2. attacked by fishermen.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____3. boys knew 10 local languages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____4. young people assumed guilty- war.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____5. boys felt constantly in danger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____6. lost shoes- burnt feet on sand.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____7. No one take in boys- scared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  <a:p>
            <a:pPr marL="228600" indent="-228600">
              <a:spcBef>
                <a:spcPts val="1800"/>
              </a:spcBef>
              <a:buClr>
                <a:srgbClr val="749805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News Gothic MT"/>
              </a:rPr>
              <a:t>____8. hip hop saved Ishamel beah</a:t>
            </a:r>
            <a:endParaRPr b="0" lang="en-US" sz="1800" spc="-1" strike="noStrike">
              <a:solidFill>
                <a:srgbClr val="404040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7T14:38:50Z</dcterms:created>
  <dc:creator>Craig Rush</dc:creator>
  <dc:description/>
  <dc:language>en-US</dc:language>
  <cp:lastModifiedBy>Craig Rush</cp:lastModifiedBy>
  <dcterms:modified xsi:type="dcterms:W3CDTF">2011-01-17T20:24:37Z</dcterms:modified>
  <cp:revision>3</cp:revision>
  <dc:subject/>
  <dc:title>A Long Way Gone Chapter 9 </dc:title>
</cp:coreProperties>
</file>